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2BC-436B-4A4C-9A33-E7E2A930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84F-0300-4B86-A796-FA255794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796-A783-46AC-B815-F2FF2DDF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67F-E1E3-40C8-9036-15B57FB4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CC0-60F2-4E95-983E-1F723479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19F-C897-4F13-8286-91AF14C3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096-FF2A-4D9C-ABF2-AAF7628C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7EF-7F54-4EBD-993B-B82D610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76B-D7FA-4D05-B724-CBA3C1DA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3F4-6FC2-4311-A443-15D250D6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EE3-CCB5-4FD5-847B-E352832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540-2126-4797-B822-A3F9034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3687-BB33-4969-8055-6984673E3EB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645000"/>
            <a:ext cx="5410080" cy="32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ت الشفيع الأكرم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0"/>
            <a:ext cx="576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ُزْتِ مَقَاماً في السما فوقَ الخَلائِقِ قَدْ سَما وَبَلَغْتِ في التقديسِ ما عَنْهُ الخَلائِقُ تُحْجِ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27280" y="287280"/>
            <a:ext cx="64818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ِبْرِيلُ وافى الناصِرَة ببشارَةٍ لَكِ ب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لَ افْرَحِي يا ط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َلَكِ الهَنَاءُ الأَعْظَمُ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76720" y="0"/>
            <a:ext cx="5832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بُّ المَلائِكِ والبَشَر يُهْدِيكِ مَجْداً مُفْتَخ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َّ المَسيحُ المُنْتَظ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جِسْمِكِ يَتَجَسَّ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6:32Z</dcterms:created>
  <dc:creator>Charbel Azar</dc:creator>
  <dc:description/>
  <dc:language>en-US</dc:language>
  <cp:lastModifiedBy>ف</cp:lastModifiedBy>
  <dcterms:modified xsi:type="dcterms:W3CDTF">2007-05-01T20:13:01Z</dcterms:modified>
  <cp:revision>23</cp:revision>
  <dc:subject/>
  <dc:title>PowerPoint Presentation</dc:title>
</cp:coreProperties>
</file>